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003-921A-4983-9645-C9BF37EC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C65-48C8-4F23-829D-3F032593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4CC-2AFF-4DF1-80B1-63B9DEFD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D99-0638-417A-AEDD-1656EF6D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A74-DD6A-4AC4-8A6C-9DC0B922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266-4D19-4EFB-90D3-E0C7FD4F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DEB-84AF-4417-B631-F1692DB5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02E-B027-4E61-AE6C-27F17A8C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7A9-3206-4504-A2A5-C6810BCE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448-4D3C-4475-9723-1C6A9E91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2A6-7723-4776-A63C-1250FB3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992-C133-4B0F-8A60-8FC1197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CA64-F86A-4281-99E5-F595A2979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Comic Sans MS"/>
              </a:rPr>
              <a:t>Pruebas de lóg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Aquí encontrarás varios juegos en los que tendrás que probar la capacidad para resolver probl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Si tu computador no puede reproducir bien alguno de éstos juegos, haz clic derecho sobre la imagen y reduce 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omic Sans MS"/>
              </a:rPr>
              <a:t>Ten en cuenta que todas estas pruebas tienen sol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b2b2b2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ShockwaveFlash1"/>
          <p:cNvGraphicFramePr/>
          <p:nvPr/>
        </p:nvGraphicFramePr>
        <p:xfrm>
          <a:off x="684360" y="404640"/>
          <a:ext cx="784836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04640"/>
                    <a:ext cx="7848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84360" y="587700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Intercambia la posición de las ranas verdes con las ranas caf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57340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omic Sans MS"/>
              </a:rPr>
              <a:t>Ayuda al granjero a cruzar al lobo, la oveja y los repollos al otro lado. Recuerda: Los lobos comen ovejas y las ovejas comen repo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ShockwaveFlash1"/>
          <p:cNvGraphicFramePr/>
          <p:nvPr/>
        </p:nvGraphicFramePr>
        <p:xfrm>
          <a:off x="395280" y="285840"/>
          <a:ext cx="8353440" cy="530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85840"/>
                    <a:ext cx="8353440" cy="53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ShockwaveFlash1"/>
          <p:cNvGraphicFramePr/>
          <p:nvPr/>
        </p:nvGraphicFramePr>
        <p:xfrm>
          <a:off x="755640" y="189000"/>
          <a:ext cx="7704000" cy="555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89000"/>
                    <a:ext cx="7704000" cy="5559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4000" y="5950080"/>
            <a:ext cx="684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Comic Sans MS"/>
              </a:rPr>
              <a:t>Ayuda a los 3 caníbales y a los 3 misioneros a cruzar al otro lado del lago. Pero cuidado, ya que cuando en un lado hay más caníbales que misioneros, ellos se los com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83080"/>
            <a:ext cx="7632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Ayuda a la familia a cruzar el puente. Ten en cuenta que es de noche y ocupan la linterna para cruz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Cada miembro cruza a una velocidad distinta (1 seg., 3 seg., 6 seg., 8 seg y 12 seg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El puente sólo resiste un máximo de 2 perso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Un par debe cruzar a la velocidad del miembro más l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200" spc="-1" strike="noStrike">
                <a:solidFill>
                  <a:srgbClr val="000000"/>
                </a:solidFill>
                <a:latin typeface="Comic Sans MS"/>
              </a:rPr>
              <a:t>La linterna sólo dura 30 segun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ShockwaveFlash1"/>
          <p:cNvGraphicFramePr/>
          <p:nvPr/>
        </p:nvGraphicFramePr>
        <p:xfrm>
          <a:off x="539640" y="333360"/>
          <a:ext cx="7993080" cy="49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33360"/>
                    <a:ext cx="7993080" cy="4967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ShockwaveFlash1"/>
          <p:cNvGraphicFramePr/>
          <p:nvPr/>
        </p:nvGraphicFramePr>
        <p:xfrm>
          <a:off x="468360" y="189000"/>
          <a:ext cx="82072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89000"/>
                    <a:ext cx="8207280" cy="5472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0" y="6381720"/>
            <a:ext cx="68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6004080"/>
            <a:ext cx="2735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Para empezar haz clic en el círculo azu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Máximo 2 personas en la bal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El Padre no puede estar con las hijas sin la presencia de la Mad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5699160"/>
            <a:ext cx="3168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La Madre no puede estar con los hijos sin la presencia del Pad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El Ladrón no puede estar con ningún miembro de la familia sin la presencia del Polic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Comic Sans MS"/>
              </a:rPr>
              <a:t>Solo el Padre, la Madre y el Policía pueden hacer funcionar la bal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172360" y="580536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7308720" y="5805360"/>
            <a:ext cx="792360" cy="576360"/>
          </a:xfrm>
          <a:prstGeom prst="leftArrow">
            <a:avLst>
              <a:gd name="adj1" fmla="val 50000"/>
              <a:gd name="adj2" fmla="val 343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7885080" y="6165720"/>
            <a:ext cx="503280" cy="476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000000"/>
                </a:solidFill>
                <a:latin typeface="Arial"/>
              </a:rPr>
              <a:t>Sal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5661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Comic Sans MS"/>
              </a:rPr>
              <a:t>Cruzar el r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2:44:42Z</dcterms:created>
  <dc:creator/>
  <dc:description/>
  <dc:language>en-US</dc:language>
  <cp:lastModifiedBy>jgonza1</cp:lastModifiedBy>
  <dcterms:modified xsi:type="dcterms:W3CDTF">2006-08-17T10:46:46Z</dcterms:modified>
  <cp:revision>10</cp:revision>
  <dc:subject/>
  <dc:title>River IQ Test</dc:title>
</cp:coreProperties>
</file>